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F8F-94BB-4634-806F-49DB6557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9AD-877C-4994-88C2-B80677F7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A6D-E03D-418C-9E9D-BE7FA66D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4F4-D662-481C-81FD-02C1EBA5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D61-2611-4648-91A5-94BC7A7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B0C-E12D-452E-93A0-7A72581F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EA0-7043-4507-B9B5-C4B0765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5B2-9D36-4C07-98D4-7FED021A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826-5160-4E6B-981F-B523708F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141-5385-433C-A224-6944DA4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2D9-BC9D-40B4-AF78-72FE5EE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CB8-A844-4599-B0FB-2D6E005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7C62-9C46-4ECD-AFED-96488505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srossel.com/fotos/fotografie/rusland/rus_d3412_st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fah.com/images/caucaus_mountains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m/imgres?imgurl=http://photos.travelblog.org/Photos/4725/304651/f/2668025-Caucasus-mountains-0.jpg&amp;imgrefurl=http://www.travelblog.org/Photos/2668025&amp;usg=__unBmYzuyaYsQMHQ81FmtkwdZQeg=&amp;h=450&amp;w=600&amp;sz=44&amp;hl=en&amp;start=4&amp;zoom=1&amp;um=1&amp;itbs=1&amp;tbnid=ZLIiILDANwXAVM:&amp;tbnh=101&amp;tbnw=135&amp;prev=/images%3Fq%3Dcaucasus%2Bmountains%26um%3D1%26hl%3Den%26tbs%3Disch: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99"/>
                </a:solidFill>
                <a:uFillTx/>
                <a:latin typeface="Arial"/>
              </a:rPr>
              <a:t>Russia’s Awesome 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y: Leanne Gough and Vincent L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ountain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Russia is huge! Its land is so big, it runs on two continents! Russia runs on both Asia and Euro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The Ural mountains divide these. Western Russia contains two mountain ranges. The Ural Mountain Range and the Caucasus Mountain R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itannic Bold"/>
              </a:rPr>
              <a:t>Ural and Caucasus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U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ot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Russia and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Cauca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Southwest Asia and Southwestern Russia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aller than the Ural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vered in different types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al And Caucasus Moun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0666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3200400"/>
            <a:ext cx="2819520" cy="21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429000" y="1219320"/>
            <a:ext cx="1995480" cy="2652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990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199040"/>
            <a:ext cx="0" cy="26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uhaus 93"/>
              </a:rPr>
              <a:t>Inland Water Bo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ussia, there are rivers, the largest sea in the world and some ca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Rivers and Hugeness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many rivers in the West Siberian Plain that run over frozen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spian Sea is the largest inland body of water in the water in the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ssia shares the Caspian Sea with four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42:39Z</dcterms:created>
  <dc:creator>Student</dc:creator>
  <dc:description/>
  <dc:language>en-US</dc:language>
  <cp:lastModifiedBy>Student</cp:lastModifiedBy>
  <dcterms:modified xsi:type="dcterms:W3CDTF">2010-12-15T19:20:10Z</dcterms:modified>
  <cp:revision>7</cp:revision>
  <dc:subject/>
  <dc:title>Russia’s Awesome Land</dc:title>
</cp:coreProperties>
</file>